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2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F2423-C61A-4796-8EEB-19D1FD43F8C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Foliennummernplatzhalter 3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6C1FD-D415-48E7-92B3-646012D3B99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Foliennummernplatzhalter 3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A0C5B-5523-4E8C-BFDC-3BECDC0B81E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CEB9-B678-4F06-8CA5-D6BD33866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29A9-A230-4789-B5F1-FC479A679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51BC-0F34-43A7-8361-36DB1CE91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7FB8-2D2C-4DFE-A49C-4A29AC24A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B908-587F-4767-A5DD-CE3422C70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0539-A9CD-4A18-AB69-A5AA1C12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E373-E387-41BC-933A-BFEB0225E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5838-276A-44BB-B91D-C00689850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0D2C-F3AF-49AB-8D90-C31BDB3CA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CAF8-BFBE-4748-8356-3FB43EC1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B057-023F-44C4-AF64-77A532C5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E5E9-7ECB-493F-89AF-09F86D46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8C44F-9FAF-4B46-B9D6-A92B56EED03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desk.zoho.eu/portal/excellenceinresti/newticket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6673680" y="4532400"/>
            <a:ext cx="2470320" cy="2292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STI - Infodesk - What is it?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457200"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ReSTI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is targeting the improvement of project management knowledg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457200"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457200"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ReSTI Infodesk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is a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Virtual Helpdesk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and a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Knowledge Bas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457200"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457200"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 free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ReSTI Infodesk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will allow you to ask specific questions related to the preparation and management of your innovative international project(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457200"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457200"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s://desk.zoho.eu/portal/excellenceinresti/newtick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ußzeilenplatzhalt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xcellence-in-ReSTI is co-funded by European Union funds (ERDF, IPA)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Foliennummernplatzhalt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CEDE8-7B44-453F-A2DC-2C30D11FA83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3"/>
          <a:stretch/>
        </p:blipFill>
        <p:spPr>
          <a:xfrm>
            <a:off x="0" y="44280"/>
            <a:ext cx="3348000" cy="1281240"/>
          </a:xfrm>
          <a:prstGeom prst="rect">
            <a:avLst/>
          </a:prstGeom>
          <a:ln w="0">
            <a:noFill/>
          </a:ln>
        </p:spPr>
      </p:pic>
      <p:pic>
        <p:nvPicPr>
          <p:cNvPr id="53" name="Grafik 10" descr=""/>
          <p:cNvPicPr/>
          <p:nvPr/>
        </p:nvPicPr>
        <p:blipFill>
          <a:blip r:embed="rId4"/>
          <a:srcRect l="0" t="0" r="0" b="2705"/>
          <a:stretch/>
        </p:blipFill>
        <p:spPr>
          <a:xfrm>
            <a:off x="6840360" y="368280"/>
            <a:ext cx="2136960" cy="633600"/>
          </a:xfrm>
          <a:prstGeom prst="rect">
            <a:avLst/>
          </a:prstGeom>
          <a:ln w="0">
            <a:noFill/>
          </a:ln>
        </p:spPr>
      </p:pic>
      <p:pic>
        <p:nvPicPr>
          <p:cNvPr id="54" name="Grafik 2" descr=""/>
          <p:cNvPicPr/>
          <p:nvPr/>
        </p:nvPicPr>
        <p:blipFill>
          <a:blip r:embed="rId5"/>
          <a:stretch/>
        </p:blipFill>
        <p:spPr>
          <a:xfrm>
            <a:off x="5892840" y="1370160"/>
            <a:ext cx="3084480" cy="84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6673680" y="4532400"/>
            <a:ext cx="2470320" cy="2292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STI - Infodesk - Topics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457200"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Questions related to the following topics will be answered by our experts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Fußzeilenplatzhalt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xcellence-in-ReSTI is co-funded by European Union funds (ERDF, IPA)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Foliennummernplatzhalt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CCEA4-3E03-4E96-B662-ADE9D657696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0" y="44280"/>
            <a:ext cx="3348000" cy="1281240"/>
          </a:xfrm>
          <a:prstGeom prst="rect">
            <a:avLst/>
          </a:prstGeom>
          <a:ln w="0">
            <a:noFill/>
          </a:ln>
        </p:spPr>
      </p:pic>
      <p:pic>
        <p:nvPicPr>
          <p:cNvPr id="60" name="Grafik 10" descr=""/>
          <p:cNvPicPr/>
          <p:nvPr/>
        </p:nvPicPr>
        <p:blipFill>
          <a:blip r:embed="rId3"/>
          <a:srcRect l="0" t="0" r="0" b="2705"/>
          <a:stretch/>
        </p:blipFill>
        <p:spPr>
          <a:xfrm>
            <a:off x="6840360" y="368280"/>
            <a:ext cx="2136960" cy="633600"/>
          </a:xfrm>
          <a:prstGeom prst="rect">
            <a:avLst/>
          </a:prstGeom>
          <a:ln w="0">
            <a:noFill/>
          </a:ln>
        </p:spPr>
      </p:pic>
      <p:pic>
        <p:nvPicPr>
          <p:cNvPr id="61" name="Grafik 2" descr=""/>
          <p:cNvPicPr/>
          <p:nvPr/>
        </p:nvPicPr>
        <p:blipFill>
          <a:blip r:embed="rId4"/>
          <a:stretch/>
        </p:blipFill>
        <p:spPr>
          <a:xfrm>
            <a:off x="5892840" y="1370160"/>
            <a:ext cx="3084480" cy="842760"/>
          </a:xfrm>
          <a:prstGeom prst="rect">
            <a:avLst/>
          </a:prstGeom>
          <a:ln w="0">
            <a:noFill/>
          </a:ln>
        </p:spPr>
      </p:pic>
      <p:pic>
        <p:nvPicPr>
          <p:cNvPr id="62" name="Textfeld 8" descr=""/>
          <p:cNvPicPr/>
          <p:nvPr/>
        </p:nvPicPr>
        <p:blipFill>
          <a:blip r:embed="rId5"/>
          <a:stretch/>
        </p:blipFill>
        <p:spPr>
          <a:xfrm>
            <a:off x="987480" y="3413160"/>
            <a:ext cx="782172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7T09:27:16Z</dcterms:created>
  <dc:creator>Ines Marinkovic</dc:creator>
  <dc:description/>
  <dc:language>en-US</dc:language>
  <cp:lastModifiedBy>Ivan N</cp:lastModifiedBy>
  <cp:lastPrinted>2018-02-27T15:14:14Z</cp:lastPrinted>
  <dcterms:modified xsi:type="dcterms:W3CDTF">2018-09-26T14:34:32Z</dcterms:modified>
  <cp:revision>97</cp:revision>
  <dc:subject/>
  <dc:title>Facilitating macro-regional scope and link up to socio-economic actors of Research Infrastructure in the Danube Region - ResInfra@DR</dc:title>
</cp:coreProperties>
</file>