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7E09-724E-47B5-BBC4-EE4C7596BC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liennummernplatzhalt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1699-5AC1-406F-8ABA-5CF2172FD7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oliennummernplatzhalt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714F-A9B0-49AC-94EC-5AD413191D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7DC-E057-4FA2-8E56-EC8AFC9F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0E6-6AAB-47DD-B9B7-B003DDBD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18F-1FC5-4671-9390-95B99513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7333-DD5F-4602-9EBC-1B1F5CBE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2D3-9449-457E-BD5A-77FA4840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01E3-3AB9-4740-8FD9-2E4FCBD0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2E4F-A14B-4202-A8E5-04E43EA4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9AC5-B33D-4364-A0B7-35903CF0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ED0-D2E9-41FA-82FC-C253584D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6B5-028B-419D-8DD8-3268AD16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BAA-4D44-4C71-84EE-7A6AB64D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492-F1D1-4E2E-B47A-F30ACB94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14C4-5807-4961-A1E3-C37FC7C1BB8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desk.zoho.eu/portal/excellenceinresti/newticke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673680" y="4532400"/>
            <a:ext cx="2470320" cy="2292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STI - Infodesk - What is it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eSTI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is targeting the improvement of project management knowled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eSTI Infodesk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Virtual Helpdesk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Knowledge Bas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free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eSTI Infodesk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will allow you to ask specific questions related to the preparation and management of your innovative international project(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desk.zoho.eu/portal/excellenceinresti/newtick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ußzeilenplatzhalt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xcellence-in-ReSTI is co-funded by European Union funds (ERDF, IPA)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oliennummernplatzhalt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F757-A18E-4E5C-81B3-32C11990B47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0" y="44280"/>
            <a:ext cx="3348000" cy="1281240"/>
          </a:xfrm>
          <a:prstGeom prst="rect">
            <a:avLst/>
          </a:prstGeom>
          <a:ln w="0">
            <a:noFill/>
          </a:ln>
        </p:spPr>
      </p:pic>
      <p:pic>
        <p:nvPicPr>
          <p:cNvPr id="53" name="Grafik 10" descr=""/>
          <p:cNvPicPr/>
          <p:nvPr/>
        </p:nvPicPr>
        <p:blipFill>
          <a:blip r:embed="rId4"/>
          <a:srcRect l="0" t="0" r="0" b="2705"/>
          <a:stretch/>
        </p:blipFill>
        <p:spPr>
          <a:xfrm>
            <a:off x="6840360" y="368280"/>
            <a:ext cx="2136960" cy="633600"/>
          </a:xfrm>
          <a:prstGeom prst="rect">
            <a:avLst/>
          </a:prstGeom>
          <a:ln w="0">
            <a:noFill/>
          </a:ln>
        </p:spPr>
      </p:pic>
      <p:pic>
        <p:nvPicPr>
          <p:cNvPr id="54" name="Grafik 2" descr=""/>
          <p:cNvPicPr/>
          <p:nvPr/>
        </p:nvPicPr>
        <p:blipFill>
          <a:blip r:embed="rId5"/>
          <a:stretch/>
        </p:blipFill>
        <p:spPr>
          <a:xfrm>
            <a:off x="5892840" y="1370160"/>
            <a:ext cx="308448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673680" y="4532400"/>
            <a:ext cx="2470320" cy="2292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STI - Infodesk - Topic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stions related to the following topics will be answered by our expert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ußzeilenplatzhalt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xcellence-in-ReSTI is co-funded by European Union funds (ERDF, IPA)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liennummernplatzhalt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92B5-E876-4606-B286-2E2B3583B1F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44280"/>
            <a:ext cx="3348000" cy="1281240"/>
          </a:xfrm>
          <a:prstGeom prst="rect">
            <a:avLst/>
          </a:prstGeom>
          <a:ln w="0">
            <a:noFill/>
          </a:ln>
        </p:spPr>
      </p:pic>
      <p:pic>
        <p:nvPicPr>
          <p:cNvPr id="60" name="Grafik 10" descr=""/>
          <p:cNvPicPr/>
          <p:nvPr/>
        </p:nvPicPr>
        <p:blipFill>
          <a:blip r:embed="rId3"/>
          <a:srcRect l="0" t="0" r="0" b="2705"/>
          <a:stretch/>
        </p:blipFill>
        <p:spPr>
          <a:xfrm>
            <a:off x="6840360" y="368280"/>
            <a:ext cx="2136960" cy="633600"/>
          </a:xfrm>
          <a:prstGeom prst="rect">
            <a:avLst/>
          </a:prstGeom>
          <a:ln w="0">
            <a:noFill/>
          </a:ln>
        </p:spPr>
      </p:pic>
      <p:pic>
        <p:nvPicPr>
          <p:cNvPr id="61" name="Grafik 2" descr=""/>
          <p:cNvPicPr/>
          <p:nvPr/>
        </p:nvPicPr>
        <p:blipFill>
          <a:blip r:embed="rId4"/>
          <a:stretch/>
        </p:blipFill>
        <p:spPr>
          <a:xfrm>
            <a:off x="5892840" y="1370160"/>
            <a:ext cx="3084480" cy="842760"/>
          </a:xfrm>
          <a:prstGeom prst="rect">
            <a:avLst/>
          </a:prstGeom>
          <a:ln w="0">
            <a:noFill/>
          </a:ln>
        </p:spPr>
      </p:pic>
      <p:pic>
        <p:nvPicPr>
          <p:cNvPr id="62" name="Textfeld 8" descr=""/>
          <p:cNvPicPr/>
          <p:nvPr/>
        </p:nvPicPr>
        <p:blipFill>
          <a:blip r:embed="rId5"/>
          <a:stretch/>
        </p:blipFill>
        <p:spPr>
          <a:xfrm>
            <a:off x="987480" y="3413160"/>
            <a:ext cx="782172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9:27:16Z</dcterms:created>
  <dc:creator>Ines Marinkovic</dc:creator>
  <dc:description/>
  <dc:language>en-US</dc:language>
  <cp:lastModifiedBy>Ivan N</cp:lastModifiedBy>
  <cp:lastPrinted>2018-02-27T15:14:14Z</cp:lastPrinted>
  <dcterms:modified xsi:type="dcterms:W3CDTF">2018-09-26T14:34:32Z</dcterms:modified>
  <cp:revision>97</cp:revision>
  <dc:subject/>
  <dc:title>Facilitating macro-regional scope and link up to socio-economic actors of Research Infrastructure in the Danube Region - ResInfra@DR</dc:title>
</cp:coreProperties>
</file>