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2587-2DCD-460A-AEEF-D244F6F3CF6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2B76-7820-42C5-92F3-E820A1DCDAF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F78-82F9-4DEA-8896-E58E0891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073-1B24-40CA-B2A6-68259744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850-13D7-42A3-A4EF-E0CDFB28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476-54BE-44E9-B9D9-1F292D22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49C-2BD5-4972-8E5A-83A42F2E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11F-E2AE-43D7-A35E-D7C25BDF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F03-B795-437F-83E1-B361DB7B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365-30BF-4D92-8F69-88534BFD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F49-0F8F-4AF7-83FD-7575A17E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154-B4D3-46F4-B26B-0FECD75B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3F0-99BC-4819-BBE8-665AD7E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38D-9B51-410E-AEAE-287E98D4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7DFD-6F37-4AEA-93E9-7064035A091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erreg-danube.eu/danube-geotour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nterreg-danube.eu/danube-geotou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076720" y="2825640"/>
            <a:ext cx="4067280" cy="403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1809360"/>
            <a:ext cx="64087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5400" spc="-1" strike="noStrike">
                <a:solidFill>
                  <a:srgbClr val="abd91a"/>
                </a:solidFill>
                <a:latin typeface="Montserrat"/>
              </a:rPr>
              <a:t>Danube GeoT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3033360"/>
            <a:ext cx="6048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7588"/>
                </a:solidFill>
                <a:latin typeface="Montserrat"/>
              </a:rPr>
              <a:t>Valorisation of geo-heritage for sustainable and innovative tourism development of Danube Geo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28000" y="2276640"/>
            <a:ext cx="1116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684360" y="5013360"/>
            <a:ext cx="60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bbf18"/>
                </a:solidFill>
                <a:latin typeface="Montserrat"/>
              </a:rPr>
              <a:t>01/2017-06/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8000" y="4089240"/>
            <a:ext cx="6048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277588"/>
                </a:solidFill>
                <a:latin typeface="Montserrat"/>
              </a:rPr>
              <a:t>www.interreg-danube.eu/danube-geot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Danube Transnational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Uporabnik\Desktop\TEKOČE DELO - GEOPARK IDRIJA\PROJEKTI - TEKOČI\DANUBE\programska dokumentacija\DanubeTP_map_A3-Final.jpg"/>
          <p:cNvPicPr/>
          <p:nvPr/>
        </p:nvPicPr>
        <p:blipFill>
          <a:blip r:embed="rId1"/>
          <a:stretch/>
        </p:blipFill>
        <p:spPr>
          <a:xfrm>
            <a:off x="444600" y="1989000"/>
            <a:ext cx="4228920" cy="3600720"/>
          </a:xfrm>
          <a:prstGeom prst="rect">
            <a:avLst/>
          </a:prstGeom>
          <a:ln w="0">
            <a:noFill/>
          </a:ln>
        </p:spPr>
      </p:pic>
      <p:sp>
        <p:nvSpPr>
          <p:cNvPr id="56" name="PoljeZBesedilom 3"/>
          <p:cNvSpPr/>
          <p:nvPr/>
        </p:nvSpPr>
        <p:spPr>
          <a:xfrm>
            <a:off x="5219640" y="1824120"/>
            <a:ext cx="324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MAIN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Contribution to the development of a more innovative, better accessible and sustainable Danub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Inhaltsplatzhalter 2"/>
          <p:cNvSpPr/>
          <p:nvPr/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MAIN PROJECT OBJECT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s to improve management capacities and strategies and to develop practical solutions for the activation of geodiversity/geoheritage and to seize positive market trends for sustainable tourism development in 8 Geoparks of the Danub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Duration 30 months </a:t>
            </a:r>
            <a:r>
              <a:rPr b="0" lang="de-AT" sz="2400" spc="-1" strike="noStrike">
                <a:solidFill>
                  <a:srgbClr val="000000"/>
                </a:solidFill>
                <a:latin typeface="Cambria"/>
              </a:rPr>
              <a:t>01/2017 – 06/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The total budget  </a:t>
            </a:r>
            <a:r>
              <a:rPr b="1" lang="sl-SI" sz="24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de-AT" sz="2400" spc="-1" strike="noStrike">
                <a:solidFill>
                  <a:srgbClr val="000000"/>
                </a:solidFill>
                <a:latin typeface="Cambria"/>
              </a:rPr>
              <a:t>,666,362.50</a:t>
            </a:r>
            <a:r>
              <a:rPr b="1" lang="sl-SI" sz="2400" spc="-1" strike="noStrike">
                <a:solidFill>
                  <a:srgbClr val="000000"/>
                </a:solidFill>
                <a:latin typeface="Cambria"/>
              </a:rPr>
              <a:t> EUR    </a:t>
            </a: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(85 % co-finan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ERDF: </a:t>
            </a: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1,328,063.36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IPA:                  88,344.75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ENI:                             0.00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jeZBesedilom 1"/>
          <p:cNvSpPr/>
          <p:nvPr/>
        </p:nvSpPr>
        <p:spPr>
          <a:xfrm>
            <a:off x="4294080" y="620640"/>
            <a:ext cx="4402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Interreg Danube Geo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277588"/>
                </a:solidFill>
                <a:latin typeface="Montserrat"/>
              </a:rPr>
              <a:t>Project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haltsplatzhalter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7 UNESCO Global Geo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1 Aspiring Geo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11 partners from 8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3 Associated Strategic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mbria"/>
              </a:rPr>
              <a:t>Find us 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Cambria"/>
                <a:hlinkClick r:id="rId1"/>
              </a:rPr>
              <a:t>www.interreg-danube.eu/danube-geo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de-DE" sz="2800" spc="-1" strike="noStrike">
                <a:solidFill>
                  <a:srgbClr val="000000"/>
                </a:solidFill>
                <a:latin typeface="Cambria"/>
              </a:rPr>
              <a:t>acebook: Interreg Danube Geo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0" y="422280"/>
            <a:ext cx="5178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Project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nhaltsplatzhalter 8" descr=""/>
          <p:cNvPicPr/>
          <p:nvPr/>
        </p:nvPicPr>
        <p:blipFill>
          <a:blip r:embed="rId1"/>
          <a:stretch/>
        </p:blipFill>
        <p:spPr>
          <a:xfrm>
            <a:off x="3446640" y="3065400"/>
            <a:ext cx="2857320" cy="1271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303960" y="1596960"/>
            <a:ext cx="2692440" cy="1092240"/>
          </a:xfrm>
          <a:prstGeom prst="rect">
            <a:avLst/>
          </a:prstGeom>
          <a:ln w="0">
            <a:noFill/>
          </a:ln>
        </p:spPr>
      </p:pic>
      <p:pic>
        <p:nvPicPr>
          <p:cNvPr id="64" name="Slika 3" descr=""/>
          <p:cNvPicPr/>
          <p:nvPr/>
        </p:nvPicPr>
        <p:blipFill>
          <a:blip r:embed="rId3"/>
          <a:stretch/>
        </p:blipFill>
        <p:spPr>
          <a:xfrm>
            <a:off x="4734000" y="5208480"/>
            <a:ext cx="2309760" cy="1638360"/>
          </a:xfrm>
          <a:prstGeom prst="rect">
            <a:avLst/>
          </a:prstGeom>
          <a:ln w="0">
            <a:noFill/>
          </a:ln>
        </p:spPr>
      </p:pic>
      <p:pic>
        <p:nvPicPr>
          <p:cNvPr id="65" name="Slika 2" descr=""/>
          <p:cNvPicPr/>
          <p:nvPr/>
        </p:nvPicPr>
        <p:blipFill>
          <a:blip r:embed="rId4"/>
          <a:stretch/>
        </p:blipFill>
        <p:spPr>
          <a:xfrm>
            <a:off x="587520" y="2997360"/>
            <a:ext cx="2705040" cy="1409400"/>
          </a:xfrm>
          <a:prstGeom prst="rect">
            <a:avLst/>
          </a:prstGeom>
          <a:ln w="0">
            <a:noFill/>
          </a:ln>
        </p:spPr>
      </p:pic>
      <p:pic>
        <p:nvPicPr>
          <p:cNvPr id="66" name="Grafik 2" descr=""/>
          <p:cNvPicPr/>
          <p:nvPr/>
        </p:nvPicPr>
        <p:blipFill>
          <a:blip r:embed="rId5"/>
          <a:stretch/>
        </p:blipFill>
        <p:spPr>
          <a:xfrm>
            <a:off x="587520" y="4746600"/>
            <a:ext cx="1716120" cy="1292400"/>
          </a:xfrm>
          <a:prstGeom prst="rect">
            <a:avLst/>
          </a:prstGeom>
          <a:ln w="0">
            <a:noFill/>
          </a:ln>
        </p:spPr>
      </p:pic>
      <p:pic>
        <p:nvPicPr>
          <p:cNvPr id="67" name="Grafik 12" descr=""/>
          <p:cNvPicPr/>
          <p:nvPr/>
        </p:nvPicPr>
        <p:blipFill>
          <a:blip r:embed="rId6"/>
          <a:stretch/>
        </p:blipFill>
        <p:spPr>
          <a:xfrm>
            <a:off x="4635360" y="4275000"/>
            <a:ext cx="2872080" cy="800280"/>
          </a:xfrm>
          <a:prstGeom prst="rect">
            <a:avLst/>
          </a:prstGeom>
          <a:ln w="0">
            <a:noFill/>
          </a:ln>
        </p:spPr>
      </p:pic>
      <p:pic>
        <p:nvPicPr>
          <p:cNvPr id="68" name="Grafik 5" descr=""/>
          <p:cNvPicPr/>
          <p:nvPr/>
        </p:nvPicPr>
        <p:blipFill>
          <a:blip r:embed="rId7"/>
          <a:stretch/>
        </p:blipFill>
        <p:spPr>
          <a:xfrm>
            <a:off x="6394320" y="2825640"/>
            <a:ext cx="2511720" cy="1411560"/>
          </a:xfrm>
          <a:prstGeom prst="rect">
            <a:avLst/>
          </a:prstGeom>
          <a:ln w="0">
            <a:noFill/>
          </a:ln>
        </p:spPr>
      </p:pic>
      <p:pic>
        <p:nvPicPr>
          <p:cNvPr id="69" name="Grafik 11" descr=""/>
          <p:cNvPicPr/>
          <p:nvPr/>
        </p:nvPicPr>
        <p:blipFill>
          <a:blip r:embed="rId8"/>
          <a:stretch/>
        </p:blipFill>
        <p:spPr>
          <a:xfrm>
            <a:off x="2556000" y="4514760"/>
            <a:ext cx="1925640" cy="1765440"/>
          </a:xfrm>
          <a:prstGeom prst="rect">
            <a:avLst/>
          </a:prstGeom>
          <a:ln w="0">
            <a:noFill/>
          </a:ln>
        </p:spPr>
      </p:pic>
      <p:pic>
        <p:nvPicPr>
          <p:cNvPr id="70" name="Grafik 13" descr=""/>
          <p:cNvPicPr/>
          <p:nvPr/>
        </p:nvPicPr>
        <p:blipFill>
          <a:blip r:embed="rId9"/>
          <a:stretch/>
        </p:blipFill>
        <p:spPr>
          <a:xfrm>
            <a:off x="2870280" y="1460520"/>
            <a:ext cx="3387600" cy="1365120"/>
          </a:xfrm>
          <a:prstGeom prst="rect">
            <a:avLst/>
          </a:prstGeom>
          <a:ln w="0">
            <a:noFill/>
          </a:ln>
        </p:spPr>
      </p:pic>
      <p:pic>
        <p:nvPicPr>
          <p:cNvPr id="71" name="Grafik 15" descr=""/>
          <p:cNvPicPr/>
          <p:nvPr/>
        </p:nvPicPr>
        <p:blipFill>
          <a:blip r:embed="rId10"/>
          <a:stretch/>
        </p:blipFill>
        <p:spPr>
          <a:xfrm>
            <a:off x="7416720" y="5154480"/>
            <a:ext cx="1506600" cy="1506600"/>
          </a:xfrm>
          <a:prstGeom prst="rect">
            <a:avLst/>
          </a:prstGeom>
          <a:ln w="0">
            <a:noFill/>
          </a:ln>
        </p:spPr>
      </p:pic>
      <p:pic>
        <p:nvPicPr>
          <p:cNvPr id="72" name="Slika 1" descr=""/>
          <p:cNvPicPr/>
          <p:nvPr/>
        </p:nvPicPr>
        <p:blipFill>
          <a:blip r:embed="rId11"/>
          <a:stretch/>
        </p:blipFill>
        <p:spPr>
          <a:xfrm>
            <a:off x="896760" y="1700280"/>
            <a:ext cx="20862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Associated Strategic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nhaltsplatzhalter 5" descr=""/>
          <p:cNvPicPr/>
          <p:nvPr/>
        </p:nvPicPr>
        <p:blipFill>
          <a:blip r:embed="rId1"/>
          <a:stretch/>
        </p:blipFill>
        <p:spPr>
          <a:xfrm>
            <a:off x="3002040" y="2684520"/>
            <a:ext cx="2693880" cy="188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Uporabnik\Desktop\ROKUA GEOPARK.jpg"/>
          <p:cNvPicPr/>
          <p:nvPr/>
        </p:nvPicPr>
        <p:blipFill>
          <a:blip r:embed="rId2"/>
          <a:stretch/>
        </p:blipFill>
        <p:spPr>
          <a:xfrm>
            <a:off x="457200" y="2276640"/>
            <a:ext cx="2279520" cy="299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Uporabnik\Desktop\NATURTEJO.jpg"/>
          <p:cNvPicPr/>
          <p:nvPr/>
        </p:nvPicPr>
        <p:blipFill>
          <a:blip r:embed="rId3"/>
          <a:stretch/>
        </p:blipFill>
        <p:spPr>
          <a:xfrm>
            <a:off x="5688000" y="2565360"/>
            <a:ext cx="33386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Work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1: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2: Communica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3: Geopark with(out)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4: GeoProducts with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5: Geo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6: GeoPartnership &amp;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Activitie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mbria"/>
              </a:rPr>
              <a:t>WP 3 – Analysis of the challenges of use of geological heritage in tourism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mbria"/>
              </a:rPr>
              <a:t>WP 4 – development of GeoPRODUCTS WITH LOCAL CHARACTER (GeoARTS &amp; CRAFTS, GeoFOOD, GeoBIKING, GeoOUTDOOR, Geo Archeo heritage ) – </a:t>
            </a:r>
            <a:r>
              <a:rPr b="1" lang="sl-SI" sz="2000" spc="-1" strike="noStrike">
                <a:solidFill>
                  <a:srgbClr val="000000"/>
                </a:solidFill>
                <a:latin typeface="Cambria"/>
              </a:rPr>
              <a:t>JOINT DANUBE GEO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mbria"/>
              </a:rPr>
              <a:t>WP5 – exchanging best practice and developing different interpretations (visitors center, interactive exhibitions, digitalisations, </a:t>
            </a: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village interpretation points</a:t>
            </a:r>
            <a:r>
              <a:rPr b="0" lang="sl-SI" sz="2000" spc="-1" strike="noStrike">
                <a:solidFill>
                  <a:srgbClr val="000000"/>
                </a:solidFill>
                <a:latin typeface="Cambria"/>
              </a:rPr>
              <a:t>, mobile interpre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WP6 -  marketing plan, promotional tools and material: Image brochure, short image video, info stands for visitor centres; promotional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076720" y="2825640"/>
            <a:ext cx="4067280" cy="4032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34840"/>
            <a:ext cx="64087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abd91a"/>
                </a:solidFill>
                <a:latin typeface="Montserrat"/>
              </a:rPr>
              <a:t>Thank you very much</a:t>
            </a:r>
            <a:br>
              <a:rPr sz="3600"/>
            </a:br>
            <a:r>
              <a:rPr b="1" lang="de-AT" sz="3600" spc="-1" strike="noStrike">
                <a:solidFill>
                  <a:srgbClr val="abd91a"/>
                </a:solidFill>
                <a:latin typeface="Montserrat"/>
              </a:rPr>
              <a:t>for your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028000" y="2276640"/>
            <a:ext cx="1116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hteck 1"/>
          <p:cNvSpPr/>
          <p:nvPr/>
        </p:nvSpPr>
        <p:spPr>
          <a:xfrm>
            <a:off x="485640" y="5084640"/>
            <a:ext cx="53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Find us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Cambria"/>
                <a:ea typeface="MS PGothic"/>
                <a:hlinkClick r:id="rId2"/>
              </a:rPr>
              <a:t>www.interreg-danube.eu/danube-geo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mbria"/>
                <a:ea typeface="MS PGothic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  <a:ea typeface="MS PGothic"/>
              </a:rPr>
              <a:t>acebook: Interreg Danube Geo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3T13:23:20Z</dcterms:created>
  <dc:creator>JLaganis</dc:creator>
  <dc:description/>
  <dc:language>en-US</dc:language>
  <cp:lastModifiedBy>Hewlett-Packard Company</cp:lastModifiedBy>
  <dcterms:modified xsi:type="dcterms:W3CDTF">2017-05-03T07:12:35Z</dcterms:modified>
  <cp:revision>29</cp:revision>
  <dc:subject/>
  <dc:title>Diapozitiv 1</dc:title>
</cp:coreProperties>
</file>